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0F97-D65B-4E19-9D2B-D79567F6222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003E-BE82-441E-8FEF-6DAA715BECB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691-66D3-42EE-8525-4BE7C531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438-2009-4FE7-A792-CBA1630E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543-B2B0-4732-ADEC-4B302026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319-9680-4B6B-ADBF-29131DF0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647E-6C40-45E7-877F-DFD81188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BB6F-A3A4-4737-A645-BEFA2EE8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616E-CEB3-4122-A439-6A34E716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01C2-1609-43DA-B938-95AF189E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3D69-4B35-4A34-8618-46595E20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D66E-C717-4F2D-B6D8-F1C2E227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9DB-2760-41D3-8C86-1E90CFD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BCF-A18D-45CA-A09E-847F2402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869E-E8E8-4F57-9CA8-1758629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0A20-4027-4A55-BE3F-0AA0F37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81EF-477C-4998-BC14-E263EE75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C46D-59FE-43B6-846D-C53B24BF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B4F0-B530-4AF1-A808-517D8E5B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8BF1-7288-40E7-91EA-97649BC2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AE9A-A56D-4D1D-B6B5-78EC347E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ED33-317A-4172-80A0-9152345D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CEC1-37EC-4CB2-9732-7FDA64BA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BB5D-D329-40EB-84D2-42BFB716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644-7926-495A-990B-A6842D11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4E17D-ADAA-4E98-B046-C2749B41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63CC-29A1-4011-A286-EA9D4857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2CA1-B354-4E14-B91D-5E1EBAE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50BA-8E36-4E71-BC3B-9BB3195F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79D0-3F15-43C1-9A39-5600C676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7D97-9C2B-4BB6-85BF-4CCC7EC4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56CE-5D5A-48C3-9885-FF8E3689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7D89-9ED9-408C-BA3D-4ED702E4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B2EDB-3323-429E-BEAC-B213C73D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7EFB-427D-4CB7-827E-96A78217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27B-8A71-499C-84D1-766AB3B2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A221-A8AD-4B89-B522-F38AB319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E2572-FC38-4E02-8116-E4C9F152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ADAD-2C91-436F-8B10-3D6047C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A8687-C8C0-48FA-B189-D24A2DEF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B930-1884-481F-BDD1-28303E3F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04DE-8986-45E5-9F19-4FF3F30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7B9E-A7FF-4914-A5F5-21851469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A839-280B-4EE9-8E24-D5018B9E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E82C2-35BB-4C1F-A30D-3D02ABC0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40F1D-157B-48AB-BF74-718A047F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AD4-5D3D-4CE3-9797-CDAD249F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A136B-FA6A-48AA-B00D-F04459AF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0B8C2-245B-47D2-9858-3BA14114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FC6E-F48F-491F-B050-3A4876CE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7E645-F087-4295-BB7E-28C881C7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FCE64-C86F-4E79-892F-3948E412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BF2A2-D2E3-4918-9E99-F5D3E35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3E095-5C5F-433B-A86D-8311CEB0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252F9-1A96-4CB3-9724-C9B9BCDF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A9BC7-68E6-4AAF-9419-F701ABD9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7AB32-2316-488F-8D44-289CAD5E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7EF-EA29-438A-912A-2710E747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F7027-4FA0-49BD-97E5-45537D06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9E361-65D7-412C-BC78-379517BF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30F6A-F803-4F67-8875-BA635ED7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D4B00-B633-4064-ADE4-4080C13F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34D16-E516-44F4-AD7A-896244CB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5CCE3-2139-4A5D-9DB7-92839CC8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EBD14-B1E2-42AB-B9F0-DD44BCC6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6A513-0C3E-4D92-9B46-9FC81F5A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58F6-1EA4-49D5-B151-4783365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2B11A-ED62-465A-9F46-1080886B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381-12E5-4E87-B871-908041F7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1F784-2508-4512-9744-D4029B86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8E519-26B8-4B65-BF6D-ED27FCC9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F2AE-3E53-4768-B7DF-4C780694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9B9C3-8CB0-49D7-BB15-BA8846D7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51935-6D86-4C5C-8416-E21C6296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32BE4-56DA-4C52-88D6-EE096BB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0A45-4925-4E1A-9698-ECEC57DC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4D228-9BC1-4E9F-AC3B-327A94CF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4D9B-5E9E-4662-A846-772B9AB3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A7032-EC10-444C-B09C-F00A034E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16B-78DF-49DD-AD62-F4952687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C8B0D-C165-4B4C-ABB7-C62AA117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BF425-3FC1-432F-82DC-ADD938A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477BB-49B6-49E8-B057-980D44A5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DC44E-BACF-412E-ADC6-AE8A1C7C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7F546-A369-49FE-901B-3034F23A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D35-409B-426F-B580-8AD0C12D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unstler Scrip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399D-8716-4929-BD7B-76B33A275C20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unstler Scrip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unstler Scrip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48EE-713C-4108-A24F-FC652CF00928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unstler Scrip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D810-07AB-45D8-A455-5BEB1ED85CC4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970-41B5-42B2-98CB-83771D64BA94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02FE-9383-4D71-930C-027C02F2A6E2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027B-2AC3-467C-BA36-99B3CFB7C225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unstler Scrip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8FCE-902E-440B-AE58-349F4A35C1BC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480" y="1428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600" spc="-1" strike="noStrike">
                <a:solidFill>
                  <a:srgbClr val="572314"/>
                </a:solidFill>
                <a:latin typeface="Vivaldi"/>
              </a:rPr>
              <a:t>Rennes…</a:t>
            </a:r>
            <a:endParaRPr b="0" lang="en-US" sz="96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26" name="Picture 2" descr="C:\Documents and Settings\Administrador\Mis documentos\Mis imágenes\Imagen\Logo_Rennes.gif"/>
          <p:cNvPicPr/>
          <p:nvPr/>
        </p:nvPicPr>
        <p:blipFill>
          <a:blip r:embed="rId1"/>
          <a:stretch/>
        </p:blipFill>
        <p:spPr>
          <a:xfrm>
            <a:off x="2857680" y="2914560"/>
            <a:ext cx="47145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s-AR" sz="7200" spc="-1" strike="noStrike">
                <a:solidFill>
                  <a:srgbClr val="572314"/>
                </a:solidFill>
                <a:latin typeface="Juice ITC"/>
              </a:rPr>
              <a:t>Transports</a:t>
            </a:r>
            <a:br>
              <a:rPr sz="3900"/>
            </a:br>
            <a:endParaRPr b="0" lang="en-US" sz="72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60" name="Picture 5" descr="C:\Documents and Settings\Administrador\Mis documentos\Mis imágenes\Imagen\220px-Rennes-018.jpg"/>
          <p:cNvPicPr/>
          <p:nvPr/>
        </p:nvPicPr>
        <p:blipFill>
          <a:blip r:embed="rId1"/>
          <a:stretch/>
        </p:blipFill>
        <p:spPr>
          <a:xfrm>
            <a:off x="1071720" y="1785960"/>
            <a:ext cx="3143160" cy="214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C:\Documents and Settings\Administrador\Mis documentos\Mis imágenes\Imagen\220px-TGV_train_in_Rennes_station_DSC08944.jpg"/>
          <p:cNvPicPr/>
          <p:nvPr/>
        </p:nvPicPr>
        <p:blipFill>
          <a:blip r:embed="rId2"/>
          <a:stretch/>
        </p:blipFill>
        <p:spPr>
          <a:xfrm>
            <a:off x="5357880" y="1785960"/>
            <a:ext cx="2936880" cy="2095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C:\Documents and Settings\Administrador\Mis documentos\Mis imágenes\Imagen\220px-Rennes_place_de_la_République_DSC_4521.JPG"/>
          <p:cNvPicPr/>
          <p:nvPr/>
        </p:nvPicPr>
        <p:blipFill>
          <a:blip r:embed="rId3"/>
          <a:stretch/>
        </p:blipFill>
        <p:spPr>
          <a:xfrm>
            <a:off x="107172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C:\Documents and Settings\Administrador\Mis documentos\Mis imágenes\Imagen\250px-Aéroport_de_Rennes.jpg"/>
          <p:cNvPicPr/>
          <p:nvPr/>
        </p:nvPicPr>
        <p:blipFill>
          <a:blip r:embed="rId4"/>
          <a:stretch/>
        </p:blipFill>
        <p:spPr>
          <a:xfrm>
            <a:off x="5286240" y="42861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AR" sz="7200" spc="-1" strike="noStrike">
                <a:solidFill>
                  <a:srgbClr val="572314"/>
                </a:solidFill>
                <a:latin typeface="Juice ITC"/>
              </a:rPr>
              <a:t>Sport</a:t>
            </a:r>
            <a:br>
              <a:rPr sz="3900"/>
            </a:br>
            <a:endParaRPr b="0" lang="en-US" sz="72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65" name="Picture 2" descr="C:\Documents and Settings\Administrador\Mis documentos\Mis imágenes\Imagen\iposdf.jpg"/>
          <p:cNvPicPr/>
          <p:nvPr/>
        </p:nvPicPr>
        <p:blipFill>
          <a:blip r:embed="rId1"/>
          <a:stretch/>
        </p:blipFill>
        <p:spPr>
          <a:xfrm>
            <a:off x="642960" y="1857240"/>
            <a:ext cx="2443320" cy="2643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C:\Documents and Settings\Administrador\Mis documentos\Mis imágenes\Imagen\dbgfo.jpg"/>
          <p:cNvPicPr/>
          <p:nvPr/>
        </p:nvPicPr>
        <p:blipFill>
          <a:blip r:embed="rId2"/>
          <a:stretch/>
        </p:blipFill>
        <p:spPr>
          <a:xfrm>
            <a:off x="3357720" y="2286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:\Documents and Settings\Administrador\Mis documentos\Mis imágenes\Imagen\j.jpg"/>
          <p:cNvPicPr/>
          <p:nvPr/>
        </p:nvPicPr>
        <p:blipFill>
          <a:blip r:embed="rId3"/>
          <a:stretch/>
        </p:blipFill>
        <p:spPr>
          <a:xfrm>
            <a:off x="3429000" y="4643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C:\Documents and Settings\Administrador\Mis documentos\Mis imágenes\Imagen\ad.jpg"/>
          <p:cNvPicPr/>
          <p:nvPr/>
        </p:nvPicPr>
        <p:blipFill>
          <a:blip r:embed="rId4"/>
          <a:stretch/>
        </p:blipFill>
        <p:spPr>
          <a:xfrm>
            <a:off x="6143760" y="1857240"/>
            <a:ext cx="22143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86360" y="1066680"/>
            <a:ext cx="2743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572314"/>
                </a:solidFill>
                <a:latin typeface="Juice ITC"/>
              </a:rPr>
              <a:t>Gastronomie</a:t>
            </a:r>
            <a:endParaRPr b="0" lang="en-US" sz="54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70" name="4 Marcador de posición de imagen" descr="220px-Crepes_dsc07085.jpg"/>
          <p:cNvPicPr/>
          <p:nvPr/>
        </p:nvPicPr>
        <p:blipFill>
          <a:blip r:embed="rId1"/>
          <a:stretch/>
        </p:blipFill>
        <p:spPr>
          <a:xfrm>
            <a:off x="835200" y="1139760"/>
            <a:ext cx="4431960" cy="3524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4b3e21"/>
                </a:solidFill>
                <a:latin typeface="Juice ITC"/>
              </a:rPr>
              <a:t>Crêpe </a:t>
            </a:r>
            <a:endParaRPr b="0" lang="en-US" sz="54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300" spc="-1" strike="noStrike">
                <a:solidFill>
                  <a:srgbClr val="572314"/>
                </a:solidFill>
                <a:latin typeface="Juice ITC"/>
              </a:rPr>
              <a:t>                         </a:t>
            </a:r>
            <a:r>
              <a:rPr b="0" lang="es-AR" sz="4300" spc="-1" strike="noStrike">
                <a:solidFill>
                  <a:srgbClr val="572314"/>
                </a:solidFill>
                <a:latin typeface="Juice ITC"/>
              </a:rPr>
              <a:t>Localisation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28" name="Picture 2" descr="C:\Documents and Settings\Administrador\Mis documentos\Mis imágenes\Imagen\bretagne.gif"/>
          <p:cNvPicPr/>
          <p:nvPr/>
        </p:nvPicPr>
        <p:blipFill>
          <a:blip r:embed="rId1"/>
          <a:stretch/>
        </p:blipFill>
        <p:spPr>
          <a:xfrm>
            <a:off x="857160" y="1571760"/>
            <a:ext cx="7643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86360" y="1066680"/>
            <a:ext cx="2743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572314"/>
                </a:solidFill>
                <a:latin typeface="Juice ITC"/>
              </a:rPr>
              <a:t>La Ville</a:t>
            </a:r>
            <a:endParaRPr b="0" lang="en-US" sz="60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b3e21"/>
                </a:solidFill>
                <a:latin typeface="Juice ITC"/>
              </a:rPr>
              <a:t>La ville de Rennes est située à l’Ouest de la France</a:t>
            </a:r>
            <a:endParaRPr b="0" lang="en-US" sz="20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332" name="6 Marcador de posición de imagen" descr="p1100467-1_shiftn.jpg"/>
          <p:cNvPicPr/>
          <p:nvPr/>
        </p:nvPicPr>
        <p:blipFill>
          <a:blip r:embed="rId1"/>
          <a:stretch/>
        </p:blipFill>
        <p:spPr>
          <a:xfrm>
            <a:off x="835200" y="1139760"/>
            <a:ext cx="44319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C:\Documents and Settings\Administrador\Mis documentos\Mis imágenes\Imagen\,-,-.jpg"/>
          <p:cNvPicPr/>
          <p:nvPr/>
        </p:nvPicPr>
        <p:blipFill>
          <a:blip r:embed="rId1"/>
          <a:stretch/>
        </p:blipFill>
        <p:spPr>
          <a:xfrm rot="20608200">
            <a:off x="267840" y="460440"/>
            <a:ext cx="3584520" cy="2409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C:\Documents and Settings\Administrador\Mis documentos\Mis imágenes\Imagen\images....jpg"/>
          <p:cNvPicPr/>
          <p:nvPr/>
        </p:nvPicPr>
        <p:blipFill>
          <a:blip r:embed="rId2"/>
          <a:stretch/>
        </p:blipFill>
        <p:spPr>
          <a:xfrm rot="1146000">
            <a:off x="4992480" y="622080"/>
            <a:ext cx="3651120" cy="2490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C:\Documents and Settings\Administrador\Mis documentos\Mis imágenes\Imagen\rennes-le-chateau.jpg"/>
          <p:cNvPicPr/>
          <p:nvPr/>
        </p:nvPicPr>
        <p:blipFill>
          <a:blip r:embed="rId3"/>
          <a:stretch/>
        </p:blipFill>
        <p:spPr>
          <a:xfrm rot="731400">
            <a:off x="236160" y="3706560"/>
            <a:ext cx="3591000" cy="2625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C:\Documents and Settings\Administrador\Mis documentos\Mis imágenes\Imagen\p1100467-1_shiftn.jpg"/>
          <p:cNvPicPr/>
          <p:nvPr/>
        </p:nvPicPr>
        <p:blipFill>
          <a:blip r:embed="rId4"/>
          <a:stretch/>
        </p:blipFill>
        <p:spPr>
          <a:xfrm rot="21124800">
            <a:off x="4525920" y="3611520"/>
            <a:ext cx="3881520" cy="2719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C:\Documents and Settings\Administrador\Mis documentos\Mis imágenes\Imagen\´..jpg"/>
          <p:cNvPicPr/>
          <p:nvPr/>
        </p:nvPicPr>
        <p:blipFill>
          <a:blip r:embed="rId5"/>
          <a:stretch/>
        </p:blipFill>
        <p:spPr>
          <a:xfrm>
            <a:off x="2571840" y="2214720"/>
            <a:ext cx="3357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572314"/>
                </a:solidFill>
                <a:latin typeface="Juice ITC"/>
              </a:rPr>
              <a:t>Les Symboles</a:t>
            </a:r>
            <a:endParaRPr b="0" lang="en-US" sz="60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39" name="Picture 4" descr="C:\Documents and Settings\Administrador\Mis documentos\Mis imágenes\Imagen\cat-rennes-oct-2002-298rennes-terrie1.jpg"/>
          <p:cNvPicPr/>
          <p:nvPr/>
        </p:nvPicPr>
        <p:blipFill>
          <a:blip r:embed="rId1"/>
          <a:stretch/>
        </p:blipFill>
        <p:spPr>
          <a:xfrm rot="21069600">
            <a:off x="5866920" y="1545840"/>
            <a:ext cx="2697120" cy="3127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C:\Documents and Settings\Administrador\Mis documentos\Mis imágenes\Imagen\normal_coloriage_rennes_18.jpg"/>
          <p:cNvPicPr/>
          <p:nvPr/>
        </p:nvPicPr>
        <p:blipFill>
          <a:blip r:embed="rId2"/>
          <a:stretch/>
        </p:blipFill>
        <p:spPr>
          <a:xfrm>
            <a:off x="3500280" y="3571920"/>
            <a:ext cx="2438640" cy="3048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Documents and Settings\Administrador\Mis documentos\Mis imágenes\Imagen\+++.jpg"/>
          <p:cNvPicPr/>
          <p:nvPr/>
        </p:nvPicPr>
        <p:blipFill>
          <a:blip r:embed="rId3"/>
          <a:stretch/>
        </p:blipFill>
        <p:spPr>
          <a:xfrm rot="1032600">
            <a:off x="1355760" y="1564920"/>
            <a:ext cx="32148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800" spc="-1" strike="noStrike">
                <a:solidFill>
                  <a:srgbClr val="572314"/>
                </a:solidFill>
                <a:latin typeface="Juice ITC"/>
              </a:rPr>
              <a:t>Monnaie</a:t>
            </a:r>
            <a:endParaRPr b="0" lang="en-US" sz="88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43" name="Picture 2" descr="C:\Documents and Settings\Administrador\Mis documentos\Mis imágenes\Imagen\`+`+.jpg"/>
          <p:cNvPicPr/>
          <p:nvPr/>
        </p:nvPicPr>
        <p:blipFill>
          <a:blip r:embed="rId1"/>
          <a:stretch/>
        </p:blipFill>
        <p:spPr>
          <a:xfrm>
            <a:off x="2143080" y="2286000"/>
            <a:ext cx="5357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572314"/>
                </a:solidFill>
                <a:latin typeface="Juice ITC"/>
              </a:rPr>
              <a:t> </a:t>
            </a:r>
            <a:r>
              <a:rPr b="0" lang="es-AR" sz="8000" spc="-1" strike="noStrike">
                <a:solidFill>
                  <a:srgbClr val="572314"/>
                </a:solidFill>
                <a:latin typeface="Juice ITC"/>
              </a:rPr>
              <a:t>Lieux à visiter</a:t>
            </a:r>
            <a:endParaRPr b="0" lang="en-US" sz="80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45" name="Picture 3" descr="C:\Documents and Settings\Administrador\Mis documentos\Mis imágenes\Imagen\800px-Notre_dame_en_saint-melaine_DSC_4481.jpg"/>
          <p:cNvPicPr/>
          <p:nvPr/>
        </p:nvPicPr>
        <p:blipFill>
          <a:blip r:embed="rId1"/>
          <a:stretch/>
        </p:blipFill>
        <p:spPr>
          <a:xfrm rot="21241800">
            <a:off x="566640" y="2068200"/>
            <a:ext cx="3967200" cy="2577960"/>
          </a:xfrm>
          <a:prstGeom prst="rect">
            <a:avLst/>
          </a:prstGeom>
          <a:ln w="0">
            <a:noFill/>
          </a:ln>
        </p:spPr>
      </p:pic>
      <p:sp>
        <p:nvSpPr>
          <p:cNvPr id="346" name="4 CuadroTexto"/>
          <p:cNvSpPr/>
          <p:nvPr/>
        </p:nvSpPr>
        <p:spPr>
          <a:xfrm rot="21303600">
            <a:off x="885600" y="4723200"/>
            <a:ext cx="385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4b3e21"/>
                </a:solidFill>
                <a:latin typeface="Juice ITC"/>
              </a:rPr>
              <a:t>Notre dame en saint-melaine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347" name="Picture 4" descr="C:\Documents and Settings\Administrador\Mis documentos\Mis imágenes\Imagen\220px-Anciennes_imprimeries_Oberthur_(Rennes).JPG"/>
          <p:cNvPicPr/>
          <p:nvPr/>
        </p:nvPicPr>
        <p:blipFill>
          <a:blip r:embed="rId2"/>
          <a:stretch/>
        </p:blipFill>
        <p:spPr>
          <a:xfrm rot="21048000">
            <a:off x="4860720" y="3165480"/>
            <a:ext cx="3546360" cy="2427120"/>
          </a:xfrm>
          <a:prstGeom prst="rect">
            <a:avLst/>
          </a:prstGeom>
          <a:ln w="0">
            <a:noFill/>
          </a:ln>
        </p:spPr>
      </p:pic>
      <p:sp>
        <p:nvSpPr>
          <p:cNvPr id="348" name="6 CuadroTexto"/>
          <p:cNvSpPr/>
          <p:nvPr/>
        </p:nvSpPr>
        <p:spPr>
          <a:xfrm rot="20947200">
            <a:off x="5211000" y="5838840"/>
            <a:ext cx="350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4b3e21"/>
                </a:solidFill>
                <a:latin typeface="Juice ITC"/>
              </a:rPr>
              <a:t>Les imprimeries Oberthür.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:\Documents and Settings\Administrador\Mis documentos\Mis imágenes\Imagen\220px-Lac_du_parc_Oberthür.jpg"/>
          <p:cNvPicPr/>
          <p:nvPr/>
        </p:nvPicPr>
        <p:blipFill>
          <a:blip r:embed="rId1"/>
          <a:stretch/>
        </p:blipFill>
        <p:spPr>
          <a:xfrm>
            <a:off x="500040" y="285840"/>
            <a:ext cx="2793960" cy="2095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C:\Documents and Settings\Administrador\Mis documentos\Mis imágenes\Imagen\220px-Étangs_apigné_04.jpg"/>
          <p:cNvPicPr/>
          <p:nvPr/>
        </p:nvPicPr>
        <p:blipFill>
          <a:blip r:embed="rId2"/>
          <a:stretch/>
        </p:blipFill>
        <p:spPr>
          <a:xfrm>
            <a:off x="5715000" y="357120"/>
            <a:ext cx="2793960" cy="1866960"/>
          </a:xfrm>
          <a:prstGeom prst="rect">
            <a:avLst/>
          </a:prstGeom>
          <a:ln w="0">
            <a:noFill/>
          </a:ln>
        </p:spPr>
      </p:pic>
      <p:sp>
        <p:nvSpPr>
          <p:cNvPr id="351" name="3 CuadroTexto"/>
          <p:cNvSpPr/>
          <p:nvPr/>
        </p:nvSpPr>
        <p:spPr>
          <a:xfrm>
            <a:off x="571680" y="2500200"/>
            <a:ext cx="27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Kunstler Script"/>
              </a:rPr>
              <a:t>.</a:t>
            </a:r>
            <a:r>
              <a:rPr b="0" lang="es-AR" sz="1800" spc="-1" strike="noStrike">
                <a:solidFill>
                  <a:srgbClr val="000000"/>
                </a:solidFill>
                <a:latin typeface="Juice ITC"/>
              </a:rPr>
              <a:t> </a:t>
            </a:r>
            <a:r>
              <a:rPr b="0" lang="es-AR" sz="2800" spc="-1" strike="noStrike">
                <a:solidFill>
                  <a:srgbClr val="4b3e21"/>
                </a:solidFill>
                <a:latin typeface="Juice ITC"/>
              </a:rPr>
              <a:t>Lac du parc Oberthür</a:t>
            </a:r>
            <a:endParaRPr b="0" lang="en-US" sz="2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52" name="4 CuadroTexto"/>
          <p:cNvSpPr/>
          <p:nvPr/>
        </p:nvSpPr>
        <p:spPr>
          <a:xfrm>
            <a:off x="5786280" y="2428920"/>
            <a:ext cx="271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b3e21"/>
                </a:solidFill>
                <a:latin typeface="Juice ITC"/>
              </a:rPr>
              <a:t>Étangs d'Apigné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353" name="Picture 4" descr="C:\Documents and Settings\Administrador\Mis documentos\Mis imágenes\Imagen\280px-Rennes-ancien_Palais_Universitaire-Musée_des_beaux_arts.JPG"/>
          <p:cNvPicPr/>
          <p:nvPr/>
        </p:nvPicPr>
        <p:blipFill>
          <a:blip r:embed="rId3"/>
          <a:stretch/>
        </p:blipFill>
        <p:spPr>
          <a:xfrm>
            <a:off x="3143160" y="2500200"/>
            <a:ext cx="2714760" cy="1857600"/>
          </a:xfrm>
          <a:prstGeom prst="rect">
            <a:avLst/>
          </a:prstGeom>
          <a:ln w="0">
            <a:noFill/>
          </a:ln>
        </p:spPr>
      </p:pic>
      <p:sp>
        <p:nvSpPr>
          <p:cNvPr id="354" name="6 CuadroTexto"/>
          <p:cNvSpPr/>
          <p:nvPr/>
        </p:nvSpPr>
        <p:spPr>
          <a:xfrm>
            <a:off x="3214800" y="4500720"/>
            <a:ext cx="257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b3e21"/>
                </a:solidFill>
                <a:latin typeface="Juice ITC"/>
              </a:rPr>
              <a:t>Musée des beaux-arts de Rennes</a:t>
            </a:r>
            <a:endParaRPr b="0" lang="en-US" sz="20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355" name="Picture 5" descr="C:\Documents and Settings\Administrador\Mis documentos\Mis imágenes\Imagen\280px-Champs_Libres_entrée.jpg"/>
          <p:cNvPicPr/>
          <p:nvPr/>
        </p:nvPicPr>
        <p:blipFill>
          <a:blip r:embed="rId4"/>
          <a:stretch/>
        </p:blipFill>
        <p:spPr>
          <a:xfrm>
            <a:off x="285840" y="4357800"/>
            <a:ext cx="2857320" cy="2089080"/>
          </a:xfrm>
          <a:prstGeom prst="rect">
            <a:avLst/>
          </a:prstGeom>
          <a:ln w="0">
            <a:noFill/>
          </a:ln>
        </p:spPr>
      </p:pic>
      <p:sp>
        <p:nvSpPr>
          <p:cNvPr id="356" name="9 CuadroTexto"/>
          <p:cNvSpPr/>
          <p:nvPr/>
        </p:nvSpPr>
        <p:spPr>
          <a:xfrm>
            <a:off x="285840" y="639612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b3e21"/>
                </a:solidFill>
                <a:latin typeface="Juice ITC"/>
              </a:rPr>
              <a:t>Les Champs Libres</a:t>
            </a:r>
            <a:endParaRPr b="0" lang="en-US" sz="24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357" name="Picture 6" descr="C:\Documents and Settings\Administrador\Mis documentos\Mis imágenes\Imagen\opera.jpg"/>
          <p:cNvPicPr/>
          <p:nvPr/>
        </p:nvPicPr>
        <p:blipFill>
          <a:blip r:embed="rId5"/>
          <a:stretch/>
        </p:blipFill>
        <p:spPr>
          <a:xfrm>
            <a:off x="5857920" y="4357800"/>
            <a:ext cx="2857320" cy="2030400"/>
          </a:xfrm>
          <a:prstGeom prst="rect">
            <a:avLst/>
          </a:prstGeom>
          <a:ln w="0">
            <a:noFill/>
          </a:ln>
        </p:spPr>
      </p:pic>
      <p:sp>
        <p:nvSpPr>
          <p:cNvPr id="358" name="12 CuadroTexto"/>
          <p:cNvSpPr/>
          <p:nvPr/>
        </p:nvSpPr>
        <p:spPr>
          <a:xfrm>
            <a:off x="5857920" y="6429240"/>
            <a:ext cx="28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b3e21"/>
                </a:solidFill>
                <a:latin typeface="Juice ITC"/>
              </a:rPr>
              <a:t>L'Opéra de Rennes</a:t>
            </a:r>
            <a:endParaRPr b="0" lang="en-US" sz="28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8:08:06Z</dcterms:created>
  <dc:creator>Colossus User</dc:creator>
  <dc:description/>
  <dc:language>en-US</dc:language>
  <cp:lastModifiedBy>Colossus User</cp:lastModifiedBy>
  <dcterms:modified xsi:type="dcterms:W3CDTF">2011-04-06T20:06:51Z</dcterms:modified>
  <cp:revision>13</cp:revision>
  <dc:subject/>
  <dc:title>Rennes…</dc:title>
</cp:coreProperties>
</file>